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ECBB-3646-4FD4-8509-649DA639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1A9A-89F2-4183-AC2F-74BCBDB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C12B-B81F-4BA2-8F59-70790743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65FA-E0F2-4551-B2D0-2AA8D365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3960-8AC4-4302-822E-71B854F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A2CF-7700-48E6-859D-1271528E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645B-A802-4917-85FA-4314416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50C0-13B9-4FC9-BD35-0616C82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846F-8005-4A1C-A06E-ED7F57CF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87B1-5FF9-48D3-A9B2-6BDDDAE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DD82-D1FD-49E6-A8EA-E430D5F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08A5-93C5-4618-A307-B082783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FDB-6834-4630-841D-8076D1F3D3B8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ytuł 1" descr=""/>
          <p:cNvPicPr/>
          <p:nvPr/>
        </p:nvPicPr>
        <p:blipFill>
          <a:blip r:embed="rId1"/>
          <a:stretch/>
        </p:blipFill>
        <p:spPr>
          <a:xfrm>
            <a:off x="463680" y="3486240"/>
            <a:ext cx="7997760" cy="2176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Sześcian 3" descr=""/>
          <p:cNvPicPr/>
          <p:nvPr/>
        </p:nvPicPr>
        <p:blipFill>
          <a:blip r:embed="rId2"/>
          <a:stretch/>
        </p:blipFill>
        <p:spPr>
          <a:xfrm>
            <a:off x="3633840" y="1962000"/>
            <a:ext cx="1571400" cy="3122640"/>
          </a:xfrm>
          <a:prstGeom prst="rect">
            <a:avLst/>
          </a:prstGeom>
          <a:ln w="0">
            <a:noFill/>
          </a:ln>
        </p:spPr>
      </p:pic>
      <p:pic>
        <p:nvPicPr>
          <p:cNvPr id="46" name="Sześcian 4" descr=""/>
          <p:cNvPicPr/>
          <p:nvPr/>
        </p:nvPicPr>
        <p:blipFill>
          <a:blip r:embed="rId3"/>
          <a:stretch/>
        </p:blipFill>
        <p:spPr>
          <a:xfrm>
            <a:off x="7351560" y="5572080"/>
            <a:ext cx="781200" cy="1535040"/>
          </a:xfrm>
          <a:prstGeom prst="rect">
            <a:avLst/>
          </a:prstGeom>
          <a:ln w="0">
            <a:noFill/>
          </a:ln>
        </p:spPr>
      </p:pic>
      <p:sp>
        <p:nvSpPr>
          <p:cNvPr id="47" name="Sześcian 5"/>
          <p:cNvSpPr/>
          <p:nvPr/>
        </p:nvSpPr>
        <p:spPr>
          <a:xfrm>
            <a:off x="6156360" y="920880"/>
            <a:ext cx="2087640" cy="2087280"/>
          </a:xfrm>
          <a:prstGeom prst="cube">
            <a:avLst>
              <a:gd name="adj" fmla="val 25000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6"/>
          <p:cNvSpPr/>
          <p:nvPr/>
        </p:nvSpPr>
        <p:spPr>
          <a:xfrm>
            <a:off x="826920" y="1916280"/>
            <a:ext cx="1368720" cy="1368360"/>
          </a:xfrm>
          <a:prstGeom prst="rect">
            <a:avLst/>
          </a:prstGeom>
          <a:solidFill>
            <a:srgbClr val="94147c"/>
          </a:solidFill>
          <a:ln w="19080">
            <a:solidFill>
              <a:srgbClr val="6b0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rostokąt 7" descr=""/>
          <p:cNvPicPr/>
          <p:nvPr/>
        </p:nvPicPr>
        <p:blipFill>
          <a:blip r:embed="rId4"/>
          <a:stretch/>
        </p:blipFill>
        <p:spPr>
          <a:xfrm>
            <a:off x="6546960" y="5681520"/>
            <a:ext cx="671400" cy="132264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"/>
          <p:cNvPicPr/>
          <p:nvPr/>
        </p:nvPicPr>
        <p:blipFill>
          <a:blip r:embed="rId5"/>
          <a:stretch/>
        </p:blipFill>
        <p:spPr>
          <a:xfrm>
            <a:off x="1530360" y="404640"/>
            <a:ext cx="1876320" cy="1995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10" descr=""/>
          <p:cNvPicPr/>
          <p:nvPr/>
        </p:nvPicPr>
        <p:blipFill>
          <a:blip r:embed="rId6"/>
          <a:stretch/>
        </p:blipFill>
        <p:spPr>
          <a:xfrm>
            <a:off x="6673680" y="1758960"/>
            <a:ext cx="250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Kwadrat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nazywamy iloczyn dwó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3 jest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5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676600"/>
            <a:ext cx="7315200" cy="3632040"/>
          </a:xfrm>
          <a:prstGeom prst="rect">
            <a:avLst/>
          </a:prstGeom>
          <a:ln w="0">
            <a:noFill/>
          </a:ln>
        </p:spPr>
      </p:pic>
      <p:pic>
        <p:nvPicPr>
          <p:cNvPr id="56" name="Obraz 3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368720" cy="1455840"/>
          </a:xfrm>
          <a:prstGeom prst="rect">
            <a:avLst/>
          </a:prstGeom>
          <a:ln w="0">
            <a:noFill/>
          </a:ln>
        </p:spPr>
      </p:pic>
      <p:sp>
        <p:nvSpPr>
          <p:cNvPr id="57" name="Mnożenie 5"/>
          <p:cNvSpPr/>
          <p:nvPr/>
        </p:nvSpPr>
        <p:spPr>
          <a:xfrm>
            <a:off x="5292720" y="4508640"/>
            <a:ext cx="2081160" cy="2708280"/>
          </a:xfrm>
          <a:custGeom>
            <a:avLst/>
            <a:gdLst/>
            <a:ahLst/>
            <a:rect l="l" t="t" r="r" b="b"/>
            <a:pathLst>
              <a:path w="2081808" h="2707586">
                <a:moveTo>
                  <a:pt x="376683" y="745109"/>
                </a:moveTo>
                <a:lnTo>
                  <a:pt x="623314" y="555480"/>
                </a:lnTo>
                <a:lnTo>
                  <a:pt x="1040904" y="1098594"/>
                </a:lnTo>
                <a:lnTo>
                  <a:pt x="1458494" y="555480"/>
                </a:lnTo>
                <a:lnTo>
                  <a:pt x="1705125" y="745109"/>
                </a:lnTo>
                <a:lnTo>
                  <a:pt x="1237121" y="1353793"/>
                </a:lnTo>
                <a:lnTo>
                  <a:pt x="1705125" y="1962477"/>
                </a:lnTo>
                <a:lnTo>
                  <a:pt x="1458494" y="2152106"/>
                </a:lnTo>
                <a:lnTo>
                  <a:pt x="1040904" y="1608992"/>
                </a:lnTo>
                <a:lnTo>
                  <a:pt x="623314" y="2152106"/>
                </a:lnTo>
                <a:lnTo>
                  <a:pt x="376683" y="1962477"/>
                </a:lnTo>
                <a:lnTo>
                  <a:pt x="844687" y="1353793"/>
                </a:lnTo>
                <a:lnTo>
                  <a:pt x="376683" y="745109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nazywamy iloczyn trze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7     </a:t>
            </a:r>
            <a:r>
              <a:rPr b="0" lang="pl-PL" sz="17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3 jest 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Sześcian 3" descr=""/>
          <p:cNvPicPr/>
          <p:nvPr/>
        </p:nvPicPr>
        <p:blipFill>
          <a:blip r:embed="rId1"/>
          <a:stretch/>
        </p:blipFill>
        <p:spPr>
          <a:xfrm>
            <a:off x="1011240" y="390600"/>
            <a:ext cx="1500120" cy="2833560"/>
          </a:xfrm>
          <a:prstGeom prst="rect">
            <a:avLst/>
          </a:prstGeom>
          <a:ln w="0">
            <a:noFill/>
          </a:ln>
        </p:spPr>
      </p:pic>
      <p:pic>
        <p:nvPicPr>
          <p:cNvPr id="61" name="Sześcian 4" descr=""/>
          <p:cNvPicPr/>
          <p:nvPr/>
        </p:nvPicPr>
        <p:blipFill>
          <a:blip r:embed="rId2"/>
          <a:stretch/>
        </p:blipFill>
        <p:spPr>
          <a:xfrm>
            <a:off x="7639200" y="5761080"/>
            <a:ext cx="925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5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0040" y="1557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3" name="Symbol zastępczy zawartości 3" descr=""/>
          <p:cNvPicPr/>
          <p:nvPr/>
        </p:nvPicPr>
        <p:blipFill>
          <a:blip r:embed="rId1"/>
          <a:stretch/>
        </p:blipFill>
        <p:spPr>
          <a:xfrm>
            <a:off x="4211640" y="444600"/>
            <a:ext cx="4103640" cy="633420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4"/>
          <p:cNvSpPr/>
          <p:nvPr/>
        </p:nvSpPr>
        <p:spPr>
          <a:xfrm>
            <a:off x="783000" y="2924280"/>
            <a:ext cx="32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mbol sześcianu to potęga </a:t>
            </a:r>
            <a:r>
              <a:rPr b="1" lang="pl-PL" sz="28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ostka Rubika – magiczna kostk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346560" cy="353844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6"/>
          <p:cNvSpPr/>
          <p:nvPr/>
        </p:nvSpPr>
        <p:spPr>
          <a:xfrm>
            <a:off x="1038600" y="29242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ilu sześcianów składa się taka kostk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ole tekstowe 7"/>
          <p:cNvSpPr/>
          <p:nvPr/>
        </p:nvSpPr>
        <p:spPr>
          <a:xfrm>
            <a:off x="1022400" y="609588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 kostce Rubika jest o jeden sześcian mniej, zamiast niego w środku znajduje się  przegub, do obracania kost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5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0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706840"/>
            <a:ext cx="7315200" cy="3601800"/>
          </a:xfrm>
          <a:prstGeom prst="rect">
            <a:avLst/>
          </a:prstGeom>
          <a:ln w="0">
            <a:noFill/>
          </a:ln>
        </p:spPr>
      </p:pic>
      <p:sp>
        <p:nvSpPr>
          <p:cNvPr id="71" name="Mnożenie 5"/>
          <p:cNvSpPr/>
          <p:nvPr/>
        </p:nvSpPr>
        <p:spPr>
          <a:xfrm>
            <a:off x="5580000" y="4365720"/>
            <a:ext cx="2081160" cy="2695320"/>
          </a:xfrm>
          <a:custGeom>
            <a:avLst/>
            <a:gdLst/>
            <a:ahLst/>
            <a:rect l="l" t="t" r="r" b="b"/>
            <a:pathLst>
              <a:path w="2080500" h="2695773">
                <a:moveTo>
                  <a:pt x="376618" y="742436"/>
                </a:moveTo>
                <a:lnTo>
                  <a:pt x="622751" y="552479"/>
                </a:lnTo>
                <a:lnTo>
                  <a:pt x="1040250" y="1093447"/>
                </a:lnTo>
                <a:lnTo>
                  <a:pt x="1457749" y="552479"/>
                </a:lnTo>
                <a:lnTo>
                  <a:pt x="1703882" y="742436"/>
                </a:lnTo>
                <a:lnTo>
                  <a:pt x="1236617" y="1347887"/>
                </a:lnTo>
                <a:lnTo>
                  <a:pt x="1703882" y="1953337"/>
                </a:lnTo>
                <a:lnTo>
                  <a:pt x="1457749" y="2143294"/>
                </a:lnTo>
                <a:lnTo>
                  <a:pt x="1040250" y="1602326"/>
                </a:lnTo>
                <a:lnTo>
                  <a:pt x="622751" y="2143294"/>
                </a:lnTo>
                <a:lnTo>
                  <a:pt x="376618" y="1953337"/>
                </a:lnTo>
                <a:lnTo>
                  <a:pt x="843883" y="1347887"/>
                </a:lnTo>
                <a:lnTo>
                  <a:pt x="376618" y="742436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Obraz 3" descr=""/>
          <p:cNvPicPr/>
          <p:nvPr/>
        </p:nvPicPr>
        <p:blipFill>
          <a:blip r:embed="rId2"/>
          <a:stretch/>
        </p:blipFill>
        <p:spPr>
          <a:xfrm>
            <a:off x="7157880" y="4005360"/>
            <a:ext cx="1459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3280" y="1557360"/>
            <a:ext cx="409104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wadraty </a:t>
            </a:r>
            <a:br>
              <a:rPr sz="3600"/>
            </a:b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i sześciany </a:t>
            </a:r>
            <a:br>
              <a:rPr sz="3600"/>
            </a:br>
            <a:r>
              <a:rPr b="1" lang="pl-PL" sz="3600" spc="-1" strike="noStrike">
                <a:solidFill>
                  <a:srgbClr val="e74ac9"/>
                </a:solidFill>
                <a:latin typeface="Arial"/>
              </a:rPr>
              <a:t>20</a:t>
            </a: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 liczb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4" name="Symbol zastępczy zawartości 5" descr=""/>
          <p:cNvPicPr/>
          <p:nvPr/>
        </p:nvPicPr>
        <p:blipFill>
          <a:blip r:embed="rId1"/>
          <a:stretch/>
        </p:blipFill>
        <p:spPr>
          <a:xfrm>
            <a:off x="523800" y="12600"/>
            <a:ext cx="3919680" cy="1243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Ania\AppData\Local\Microsoft\Windows\Temporary Internet Files\Content.IE5\FZ4DAB55\MC900343355[1].wmf"/>
          <p:cNvPicPr/>
          <p:nvPr/>
        </p:nvPicPr>
        <p:blipFill>
          <a:blip r:embed="rId2"/>
          <a:stretch/>
        </p:blipFill>
        <p:spPr>
          <a:xfrm>
            <a:off x="6372360" y="407664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 *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ie liczby należy wpisać w puste pol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rostokąt 3"/>
          <p:cNvSpPr/>
          <p:nvPr/>
        </p:nvSpPr>
        <p:spPr>
          <a:xfrm>
            <a:off x="2428920" y="3645000"/>
            <a:ext cx="288720" cy="28872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rostokąt 4"/>
          <p:cNvSpPr/>
          <p:nvPr/>
        </p:nvSpPr>
        <p:spPr>
          <a:xfrm>
            <a:off x="2124000" y="443700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rostokąt 5"/>
          <p:cNvSpPr/>
          <p:nvPr/>
        </p:nvSpPr>
        <p:spPr>
          <a:xfrm>
            <a:off x="2768760" y="515772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ole tekstowe 6"/>
          <p:cNvSpPr/>
          <p:nvPr/>
        </p:nvSpPr>
        <p:spPr>
          <a:xfrm>
            <a:off x="1015560" y="58975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óbuj wymyślić podobny przykł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Ania\AppData\Local\Microsoft\Windows\Temporary Internet Files\Content.IE5\FZ4DAB55\MP900439331[1].jpg"/>
          <p:cNvPicPr/>
          <p:nvPr/>
        </p:nvPicPr>
        <p:blipFill>
          <a:blip r:embed="rId1"/>
          <a:srcRect l="17331" t="6527" r="26843" b="3370"/>
          <a:stretch/>
        </p:blipFill>
        <p:spPr>
          <a:xfrm>
            <a:off x="6516720" y="1557360"/>
            <a:ext cx="21956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8:18:42Z</dcterms:created>
  <dc:creator>Ania</dc:creator>
  <dc:description/>
  <dc:language>en-US</dc:language>
  <cp:lastModifiedBy>Ania</cp:lastModifiedBy>
  <dcterms:modified xsi:type="dcterms:W3CDTF">2013-08-21T13:03:57Z</dcterms:modified>
  <cp:revision>22</cp:revision>
  <dc:subject/>
  <dc:title>Kwadraty i sześciany liczb</dc:title>
</cp:coreProperties>
</file>